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26.png" ContentType="image/png"/>
  <Override PartName="/ppt/media/image50.wmf" ContentType="image/x-wmf"/>
  <Override PartName="/ppt/media/image35.jpeg" ContentType="image/jpeg"/>
  <Override PartName="/ppt/media/image13.wmf" ContentType="image/x-wmf"/>
  <Override PartName="/ppt/media/image36.jpeg" ContentType="image/jpeg"/>
  <Override PartName="/ppt/media/image39.jpeg" ContentType="image/jpeg"/>
  <Override PartName="/ppt/media/image41.gif" ContentType="image/gif"/>
  <Override PartName="/ppt/media/image40.jpeg" ContentType="image/jpeg"/>
  <Override PartName="/ppt/media/image44.jpeg" ContentType="image/jpeg"/>
  <Override PartName="/ppt/media/image43.png" ContentType="image/png"/>
  <Override PartName="/ppt/media/image37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42.jpeg" ContentType="image/jpeg"/>
  <Override PartName="/ppt/media/image9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33.wmf" ContentType="image/x-wmf"/>
  <Override PartName="/ppt/media/image8.wmf" ContentType="image/x-wmf"/>
  <Override PartName="/ppt/media/image28.png" ContentType="image/png"/>
  <Override PartName="/ppt/media/image38.jpeg" ContentType="image/jpeg"/>
  <Override PartName="/ppt/media/image31.wmf" ContentType="image/x-wmf"/>
  <Override PartName="/ppt/media/image4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5B1-8202-4D33-A18E-C97BE53F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C99-2B9F-4CA6-B7BF-1FB6BB3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F28-3E04-4E2D-8C70-016016D5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F92-0974-420E-8988-F44DB4E7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465-1319-4E4F-B1CD-82325E7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584-AF24-4D6B-9F73-7B81754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78D-C47E-47AD-9D30-A22CABF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627-4E32-44A2-A6FA-48538AB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715-3482-4E29-9E82-7D945066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9D5-58AA-4A08-A172-D6B8013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FAB-B728-40B9-B5C5-0C2E98F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8A1-1A8E-48F0-A923-4191A2A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297-6D15-4C16-A0FB-E77351DCB7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geocities.com/simpsonshq2000/Pictures/characters/barney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eocities.com/simpsonshq2000/Pictures/characters/barney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dennisholmesdesigns.com/siteimages/cartoon_picture.pn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dennisholmesdesigns.com/siteimages/cartoon_picture.pn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C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 of slides focuses on simple short activities for early morning (or any other time of day) VCOP work. Many slides can be re used if you just change a letter, word or number). They could also be printed off as a set of extension cards for the odd minute when a child finishes ahead of schedule. Hope they are of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MCj04375350000[1]"/>
          <p:cNvPicPr/>
          <p:nvPr/>
        </p:nvPicPr>
        <p:blipFill>
          <a:blip r:embed="rId1"/>
          <a:stretch/>
        </p:blipFill>
        <p:spPr>
          <a:xfrm>
            <a:off x="1187280" y="3933720"/>
            <a:ext cx="2287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</a:rPr>
              <a:t>VC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 level these sentences keeping the mean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)  there was a bird in the tre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) there was a rabbit down the ho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) i saw a witch in the garde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) i saw a cat on the fenc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) i saw a mouse in the cup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Cj04355960000[1]"/>
          <p:cNvPicPr/>
          <p:nvPr/>
        </p:nvPicPr>
        <p:blipFill>
          <a:blip r:embed="rId1"/>
          <a:stretch/>
        </p:blipFill>
        <p:spPr>
          <a:xfrm>
            <a:off x="1116000" y="4292640"/>
            <a:ext cx="1819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j0397494"/>
          <p:cNvPicPr/>
          <p:nvPr/>
        </p:nvPicPr>
        <p:blipFill>
          <a:blip r:embed="rId1"/>
          <a:stretch/>
        </p:blipFill>
        <p:spPr>
          <a:xfrm>
            <a:off x="755640" y="4005360"/>
            <a:ext cx="1262160" cy="183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4374630000[1]"/>
          <p:cNvPicPr/>
          <p:nvPr/>
        </p:nvPicPr>
        <p:blipFill>
          <a:blip r:embed="rId2"/>
          <a:stretch/>
        </p:blipFill>
        <p:spPr>
          <a:xfrm>
            <a:off x="6593040" y="4716360"/>
            <a:ext cx="19335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Cj04126000000[1]"/>
          <p:cNvPicPr/>
          <p:nvPr/>
        </p:nvPicPr>
        <p:blipFill>
          <a:blip r:embed="rId1"/>
          <a:stretch/>
        </p:blipFill>
        <p:spPr>
          <a:xfrm>
            <a:off x="6804000" y="3573360"/>
            <a:ext cx="173340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Cj02315220000[1]"/>
          <p:cNvPicPr/>
          <p:nvPr/>
        </p:nvPicPr>
        <p:blipFill>
          <a:blip r:embed="rId2"/>
          <a:stretch/>
        </p:blipFill>
        <p:spPr>
          <a:xfrm>
            <a:off x="468360" y="3716280"/>
            <a:ext cx="248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ne,  Progress, Create, Adore, Foreboding, Speculation, Silhouette, Terrain, Apparel, Vision, Atmosp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standingly,  Tenderly,  Biologically, Formidable,  Outspoken,  Stern,  Comical,  Pathetic,  Yearning, Dwell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ainer, Furnishings, Rob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nsitively, Timidly, Aggressively, Imaginatively, Unfortunate, Murder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rvously, Worriedly, Patiently, Feelings, Courage, Experien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ak, Patience, Wasteland, Container, Furnishings, Rob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choing, Doubtful, Emotion, Anxiety, Longing, Progress, System, Communic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gredient, Vibration, Prefer, Nourish, Demonstrate, Enjoy, L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port, Shelter, Baggage, Companion, Vehicl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underous, Fearful, Marvellous, Attractive, Generosity, 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banana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4368950000[1]"/>
          <p:cNvPicPr/>
          <p:nvPr/>
        </p:nvPicPr>
        <p:blipFill>
          <a:blip r:embed="rId1"/>
          <a:stretch/>
        </p:blipFill>
        <p:spPr>
          <a:xfrm>
            <a:off x="658800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autiful, Awful, Enormou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erce, Adventure, Accident, Magic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gantic, Weird, Freezing, Quietly, Silentl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avely, Happiness, Joy, Sadness, F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autiful, Awful, Enormo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st, So, Because, Nex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iting, Afrai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ely, Inter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words can you think of beginning with the let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 can change the letter for a different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use, dog, ho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41380000[1]"/>
          <p:cNvPicPr/>
          <p:nvPr/>
        </p:nvPicPr>
        <p:blipFill>
          <a:blip r:embed="rId1"/>
          <a:stretch/>
        </p:blipFill>
        <p:spPr>
          <a:xfrm>
            <a:off x="611280" y="4581360"/>
            <a:ext cx="1923840" cy="8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4174820000[1]"/>
          <p:cNvPicPr/>
          <p:nvPr/>
        </p:nvPicPr>
        <p:blipFill>
          <a:blip r:embed="rId2"/>
          <a:stretch/>
        </p:blipFill>
        <p:spPr>
          <a:xfrm>
            <a:off x="3425760" y="3978360"/>
            <a:ext cx="1440000" cy="171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3653920000[1]"/>
          <p:cNvPicPr/>
          <p:nvPr/>
        </p:nvPicPr>
        <p:blipFill>
          <a:blip r:embed="rId3"/>
          <a:stretch/>
        </p:blipFill>
        <p:spPr>
          <a:xfrm>
            <a:off x="6012000" y="3933720"/>
            <a:ext cx="15033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t, necklace,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MCj04362560000[1]"/>
          <p:cNvPicPr/>
          <p:nvPr/>
        </p:nvPicPr>
        <p:blipFill>
          <a:blip r:embed="rId1"/>
          <a:stretch/>
        </p:blipFill>
        <p:spPr>
          <a:xfrm>
            <a:off x="1096920" y="386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Cj04124620000[1]"/>
          <p:cNvPicPr/>
          <p:nvPr/>
        </p:nvPicPr>
        <p:blipFill>
          <a:blip r:embed="rId2"/>
          <a:stretch/>
        </p:blipFill>
        <p:spPr>
          <a:xfrm>
            <a:off x="3851280" y="4313160"/>
            <a:ext cx="2698920" cy="211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4175320000[1]"/>
          <p:cNvPicPr/>
          <p:nvPr/>
        </p:nvPicPr>
        <p:blipFill>
          <a:blip r:embed="rId3"/>
          <a:stretch/>
        </p:blipFill>
        <p:spPr>
          <a:xfrm>
            <a:off x="7326360" y="4157640"/>
            <a:ext cx="15206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, necklace, 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4124620000[1]"/>
          <p:cNvPicPr/>
          <p:nvPr/>
        </p:nvPicPr>
        <p:blipFill>
          <a:blip r:embed="rId1"/>
          <a:stretch/>
        </p:blipFill>
        <p:spPr>
          <a:xfrm>
            <a:off x="3851280" y="4313160"/>
            <a:ext cx="2698920" cy="211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j0185604"/>
          <p:cNvPicPr/>
          <p:nvPr/>
        </p:nvPicPr>
        <p:blipFill>
          <a:blip r:embed="rId2"/>
          <a:stretch/>
        </p:blipFill>
        <p:spPr>
          <a:xfrm>
            <a:off x="1409760" y="46782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MCj04174820000[1]"/>
          <p:cNvPicPr/>
          <p:nvPr/>
        </p:nvPicPr>
        <p:blipFill>
          <a:blip r:embed="rId3"/>
          <a:stretch/>
        </p:blipFill>
        <p:spPr>
          <a:xfrm>
            <a:off x="6494400" y="4506840"/>
            <a:ext cx="1440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, bird, ca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j0185604"/>
          <p:cNvPicPr/>
          <p:nvPr/>
        </p:nvPicPr>
        <p:blipFill>
          <a:blip r:embed="rId1"/>
          <a:stretch/>
        </p:blipFill>
        <p:spPr>
          <a:xfrm>
            <a:off x="1409760" y="46782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374750000[1]"/>
          <p:cNvPicPr/>
          <p:nvPr/>
        </p:nvPicPr>
        <p:blipFill>
          <a:blip r:embed="rId2"/>
          <a:stretch/>
        </p:blipFill>
        <p:spPr>
          <a:xfrm>
            <a:off x="3376440" y="400212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MCj04248420000[1]"/>
          <p:cNvPicPr/>
          <p:nvPr/>
        </p:nvPicPr>
        <p:blipFill>
          <a:blip r:embed="rId3"/>
          <a:stretch/>
        </p:blipFill>
        <p:spPr>
          <a:xfrm>
            <a:off x="7240680" y="3959280"/>
            <a:ext cx="637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y, car, 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MCj04174820000[1]"/>
          <p:cNvPicPr/>
          <p:nvPr/>
        </p:nvPicPr>
        <p:blipFill>
          <a:blip r:embed="rId1"/>
          <a:stretch/>
        </p:blipFill>
        <p:spPr>
          <a:xfrm>
            <a:off x="6494400" y="4506840"/>
            <a:ext cx="144000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4356180000[1]"/>
          <p:cNvPicPr/>
          <p:nvPr/>
        </p:nvPicPr>
        <p:blipFill>
          <a:blip r:embed="rId2"/>
          <a:stretch/>
        </p:blipFill>
        <p:spPr>
          <a:xfrm>
            <a:off x="995400" y="4022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212957"/>
          <p:cNvPicPr/>
          <p:nvPr/>
        </p:nvPicPr>
        <p:blipFill>
          <a:blip r:embed="rId3"/>
          <a:stretch/>
        </p:blipFill>
        <p:spPr>
          <a:xfrm>
            <a:off x="3780000" y="458640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oud, car,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j0212957"/>
          <p:cNvPicPr/>
          <p:nvPr/>
        </p:nvPicPr>
        <p:blipFill>
          <a:blip r:embed="rId1"/>
          <a:stretch/>
        </p:blipFill>
        <p:spPr>
          <a:xfrm>
            <a:off x="3780000" y="458640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884160" y="38354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MCj04391540000[1]"/>
          <p:cNvPicPr/>
          <p:nvPr/>
        </p:nvPicPr>
        <p:blipFill>
          <a:blip r:embed="rId2"/>
          <a:stretch/>
        </p:blipFill>
        <p:spPr>
          <a:xfrm>
            <a:off x="6372360" y="3284640"/>
            <a:ext cx="2236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ird flew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tree.</a:t>
            </a: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MCj04391540000[1]"/>
          <p:cNvPicPr/>
          <p:nvPr/>
        </p:nvPicPr>
        <p:blipFill>
          <a:blip r:embed="rId1"/>
          <a:stretch/>
        </p:blipFill>
        <p:spPr>
          <a:xfrm>
            <a:off x="6948360" y="3357720"/>
            <a:ext cx="1884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sandwich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Cj04299850000[1]"/>
          <p:cNvPicPr/>
          <p:nvPr/>
        </p:nvPicPr>
        <p:blipFill>
          <a:blip r:embed="rId1"/>
          <a:stretch/>
        </p:blipFill>
        <p:spPr>
          <a:xfrm>
            <a:off x="6948360" y="4508640"/>
            <a:ext cx="1758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at sat on mat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MCj04364010000[1]"/>
          <p:cNvPicPr/>
          <p:nvPr/>
        </p:nvPicPr>
        <p:blipFill>
          <a:blip r:embed="rId1"/>
          <a:stretch/>
        </p:blipFill>
        <p:spPr>
          <a:xfrm>
            <a:off x="6948360" y="39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sh swam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4175280000[1]"/>
          <p:cNvPicPr/>
          <p:nvPr/>
        </p:nvPicPr>
        <p:blipFill>
          <a:blip r:embed="rId1"/>
          <a:stretch/>
        </p:blipFill>
        <p:spPr>
          <a:xfrm>
            <a:off x="6877080" y="4149720"/>
            <a:ext cx="1790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og growled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Cj04174820000[1]"/>
          <p:cNvPicPr/>
          <p:nvPr/>
        </p:nvPicPr>
        <p:blipFill>
          <a:blip r:embed="rId1"/>
          <a:stretch/>
        </p:blipFill>
        <p:spPr>
          <a:xfrm>
            <a:off x="6732720" y="3933720"/>
            <a:ext cx="1439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oy cried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MCj04356340000[1]"/>
          <p:cNvPicPr/>
          <p:nvPr/>
        </p:nvPicPr>
        <p:blipFill>
          <a:blip r:embed="rId1"/>
          <a:stretch/>
        </p:blipFill>
        <p:spPr>
          <a:xfrm>
            <a:off x="6300720" y="39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girl saw a fairy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j0116148"/>
          <p:cNvPicPr/>
          <p:nvPr/>
        </p:nvPicPr>
        <p:blipFill>
          <a:blip r:embed="rId1"/>
          <a:stretch/>
        </p:blipFill>
        <p:spPr>
          <a:xfrm>
            <a:off x="7380360" y="4221000"/>
            <a:ext cx="112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j0185604"/>
          <p:cNvPicPr/>
          <p:nvPr/>
        </p:nvPicPr>
        <p:blipFill>
          <a:blip r:embed="rId1"/>
          <a:stretch/>
        </p:blipFill>
        <p:spPr>
          <a:xfrm>
            <a:off x="7093080" y="494172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j0423860"/>
          <p:cNvPicPr/>
          <p:nvPr/>
        </p:nvPicPr>
        <p:blipFill>
          <a:blip r:embed="rId1"/>
          <a:stretch/>
        </p:blipFill>
        <p:spPr>
          <a:xfrm>
            <a:off x="7110360" y="4686480"/>
            <a:ext cx="1670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47220000[1]"/>
          <p:cNvPicPr/>
          <p:nvPr/>
        </p:nvPicPr>
        <p:blipFill>
          <a:blip r:embed="rId1"/>
          <a:stretch/>
        </p:blipFill>
        <p:spPr>
          <a:xfrm>
            <a:off x="6948360" y="4653000"/>
            <a:ext cx="1197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MCj04374770000[1]"/>
          <p:cNvPicPr/>
          <p:nvPr/>
        </p:nvPicPr>
        <p:blipFill>
          <a:blip r:embed="rId1"/>
          <a:stretch/>
        </p:blipFill>
        <p:spPr>
          <a:xfrm>
            <a:off x="6877080" y="4292640"/>
            <a:ext cx="17654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cat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Cj04362550000[1]"/>
          <p:cNvPicPr/>
          <p:nvPr/>
        </p:nvPicPr>
        <p:blipFill>
          <a:blip r:embed="rId1"/>
          <a:stretch/>
        </p:blipFill>
        <p:spPr>
          <a:xfrm>
            <a:off x="6948360" y="443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barney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773360"/>
            <a:ext cx="31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barney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773360"/>
            <a:ext cx="31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haracter portrait &#10;of nerdy little &#10;boy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5364000" y="1773360"/>
            <a:ext cx="327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haracter portrait &#10;of nerdy little &#10;boy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5364000" y="1773360"/>
            <a:ext cx="327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funny cartoons, cartoo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916280"/>
            <a:ext cx="300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unny cartoons, cartoo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916280"/>
            <a:ext cx="300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funny dragon sketch cartoon"/>
          <p:cNvPicPr/>
          <p:nvPr/>
        </p:nvPicPr>
        <p:blipFill>
          <a:blip r:embed="rId1"/>
          <a:stretch/>
        </p:blipFill>
        <p:spPr>
          <a:xfrm>
            <a:off x="5796000" y="1989000"/>
            <a:ext cx="2928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mouse,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241380000[1]"/>
          <p:cNvPicPr/>
          <p:nvPr/>
        </p:nvPicPr>
        <p:blipFill>
          <a:blip r:embed="rId1"/>
          <a:stretch/>
        </p:blipFill>
        <p:spPr>
          <a:xfrm>
            <a:off x="6516720" y="4869000"/>
            <a:ext cx="19238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unny dragon sketch cartoon"/>
          <p:cNvPicPr/>
          <p:nvPr/>
        </p:nvPicPr>
        <p:blipFill>
          <a:blip r:embed="rId1"/>
          <a:stretch/>
        </p:blipFill>
        <p:spPr>
          <a:xfrm>
            <a:off x="5796000" y="1989000"/>
            <a:ext cx="2928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Old woman in village between Talcha ..."/>
          <p:cNvPicPr/>
          <p:nvPr/>
        </p:nvPicPr>
        <p:blipFill>
          <a:blip r:embed="rId1"/>
          <a:stretch/>
        </p:blipFill>
        <p:spPr>
          <a:xfrm>
            <a:off x="5580000" y="2133720"/>
            <a:ext cx="325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Old woman in village between Talcha ..."/>
          <p:cNvPicPr/>
          <p:nvPr/>
        </p:nvPicPr>
        <p:blipFill>
          <a:blip r:embed="rId1"/>
          <a:stretch/>
        </p:blipFill>
        <p:spPr>
          <a:xfrm>
            <a:off x="5580000" y="2133720"/>
            <a:ext cx="325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Number: 62, Title: Infernal Girl"/>
          <p:cNvPicPr/>
          <p:nvPr/>
        </p:nvPicPr>
        <p:blipFill>
          <a:blip r:embed="rId1"/>
          <a:stretch/>
        </p:blipFill>
        <p:spPr>
          <a:xfrm>
            <a:off x="5796000" y="2133720"/>
            <a:ext cx="286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Number: 62, Title: Infernal Girl"/>
          <p:cNvPicPr/>
          <p:nvPr/>
        </p:nvPicPr>
        <p:blipFill>
          <a:blip r:embed="rId1"/>
          <a:stretch/>
        </p:blipFill>
        <p:spPr>
          <a:xfrm>
            <a:off x="5796000" y="2133720"/>
            <a:ext cx="286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dir?src=image&amp;clickedItemURN=http%3A%2F%2Fusers"/>
          <p:cNvPicPr/>
          <p:nvPr/>
        </p:nvPicPr>
        <p:blipFill>
          <a:blip r:embed="rId1"/>
          <a:stretch/>
        </p:blipFill>
        <p:spPr>
          <a:xfrm>
            <a:off x="5292720" y="2205000"/>
            <a:ext cx="3486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edir?src=image&amp;clickedItemURN=http%3A%2F%2Fusers"/>
          <p:cNvPicPr/>
          <p:nvPr/>
        </p:nvPicPr>
        <p:blipFill>
          <a:blip r:embed="rId1"/>
          <a:stretch/>
        </p:blipFill>
        <p:spPr>
          <a:xfrm>
            <a:off x="5292720" y="2205000"/>
            <a:ext cx="3486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Amazing scenary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4537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900000" y="1844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50560" y="407628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751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684360" y="1916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611280" y="1773360"/>
            <a:ext cx="7848360" cy="4728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611280" y="1844640"/>
            <a:ext cx="77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n apple,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Cj04376710000[1]"/>
          <p:cNvPicPr/>
          <p:nvPr/>
        </p:nvPicPr>
        <p:blipFill>
          <a:blip r:embed="rId1"/>
          <a:stretch/>
        </p:blipFill>
        <p:spPr>
          <a:xfrm>
            <a:off x="6877080" y="4292640"/>
            <a:ext cx="1536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45352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727200" y="1844640"/>
            <a:ext cx="76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27200" y="1844640"/>
            <a:ext cx="768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ndom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a book each. Open your book to page 3, count down to line 5 and then along to the 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d. You must now quickly write a sentence using the word, underlining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8, line 9, wor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12, line 2, wor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 challenge can you write a sentence using all thre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ry different book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727200" y="1844640"/>
            <a:ext cx="768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ndom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a book each. Open your book to page 5, count down to line 4 and then along to the 4th word. You must now quickly write a sentence using the word, underlining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7, line 8, wor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11, line 4, wor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 challenge can you write a sentence using all thre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ry different book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illy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e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bour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illy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r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wo adjectives. (describing wo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j0424122"/>
          <p:cNvPicPr/>
          <p:nvPr/>
        </p:nvPicPr>
        <p:blipFill>
          <a:blip r:embed="rId1"/>
          <a:stretch/>
        </p:blipFill>
        <p:spPr>
          <a:xfrm>
            <a:off x="5219640" y="4365720"/>
            <a:ext cx="18860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alk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372360" y="3284640"/>
            <a:ext cx="1512720" cy="93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3429000"/>
            <a:ext cx="1150920" cy="792000"/>
          </a:xfrm>
          <a:prstGeom prst="wedgeRectCallout">
            <a:avLst>
              <a:gd name="adj1" fmla="val 102138"/>
              <a:gd name="adj2" fmla="val 98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116000" y="4941720"/>
            <a:ext cx="1511280" cy="719280"/>
          </a:xfrm>
          <a:prstGeom prst="wedgeRoundRectCallout">
            <a:avLst>
              <a:gd name="adj1" fmla="val 77310"/>
              <a:gd name="adj2" fmla="val -79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727200" y="1844640"/>
            <a:ext cx="768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an adverb in each sentence. (remember an adverb describes the verb eg quick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49627"/>
          <p:cNvPicPr/>
          <p:nvPr/>
        </p:nvPicPr>
        <p:blipFill>
          <a:blip r:embed="rId1"/>
          <a:stretch/>
        </p:blipFill>
        <p:spPr>
          <a:xfrm>
            <a:off x="6084720" y="472428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he word ‘after’ in each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j0116146"/>
          <p:cNvPicPr/>
          <p:nvPr/>
        </p:nvPicPr>
        <p:blipFill>
          <a:blip r:embed="rId1"/>
          <a:stretch/>
        </p:blipFill>
        <p:spPr>
          <a:xfrm>
            <a:off x="6948360" y="4581360"/>
            <a:ext cx="1592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he word ‘when’ in each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j0116146"/>
          <p:cNvPicPr/>
          <p:nvPr/>
        </p:nvPicPr>
        <p:blipFill>
          <a:blip r:embed="rId1"/>
          <a:stretch/>
        </p:blipFill>
        <p:spPr>
          <a:xfrm>
            <a:off x="6948360" y="4581360"/>
            <a:ext cx="1592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27200" y="1844640"/>
            <a:ext cx="768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a simile in each sentence. (remember a simile  is used to compare two things, usually with the words “like” or “as”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 quiet as a mous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MCj04241380000[1]"/>
          <p:cNvPicPr/>
          <p:nvPr/>
        </p:nvPicPr>
        <p:blipFill>
          <a:blip r:embed="rId1"/>
          <a:stretch/>
        </p:blipFill>
        <p:spPr>
          <a:xfrm>
            <a:off x="6804000" y="5589720"/>
            <a:ext cx="1924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27200" y="184464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n alliterative sentence about each one. Eg The tiny tiger tickled the terrified terrapins two toes with torn tinse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MCj0183858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1442880" cy="1458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MCj0424134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727200" y="184464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n alliterative sentence about each one. Eg The tiny tiger tickled the terrified terrapins two toes with torn tinse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MCj0183858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1442880" cy="1458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MCj0424134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727200" y="1844640"/>
            <a:ext cx="768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ing Metaphors by Pie Cor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of all, identify something that you want to create a metaphor around eg the stars. Think of something that is like the subject or something to do with the subject - they shine, glitter, are like tin-tacks, like diamonds, like jewels, like fiery eyes. Now use an idea to make a metaphor, remembering not to use the word 'like', e.g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te a simile - the stars are like diam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mit the word 'like' - the stars are diam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ve the noun in front of the image - the diamond stars. Dylan Thomas uses this technique in his wri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three sentences using a different connective in 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hoose 3 connectives and write 3 sentences using one in 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Arial"/>
              </a:rPr>
              <a:t>And, But So, Then Because, When, If After While,  As well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hoose 3 connectives and write 3 sentences using one in 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Although, However Also Besides, Even though, Never the less, In addition to, Contrary to, Despite, So, 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Cj04174360000[1]"/>
          <p:cNvPicPr/>
          <p:nvPr/>
        </p:nvPicPr>
        <p:blipFill>
          <a:blip r:embed="rId1"/>
          <a:stretch/>
        </p:blipFill>
        <p:spPr>
          <a:xfrm>
            <a:off x="971640" y="3933720"/>
            <a:ext cx="1697040" cy="17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Cj04247160000[1]"/>
          <p:cNvPicPr/>
          <p:nvPr/>
        </p:nvPicPr>
        <p:blipFill>
          <a:blip r:embed="rId2"/>
          <a:stretch/>
        </p:blipFill>
        <p:spPr>
          <a:xfrm>
            <a:off x="6732720" y="3933720"/>
            <a:ext cx="18540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y game- a pairs game (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take turns to say a line in a story which you then hand on to your partner by suggesting a connective, e.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1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re was a woodcutte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2: spent many hours in the fores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1: his wife spent so much money at Marks &amp; Spencer, he had no choice to wor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re some connectives for you to play with!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ean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urtherm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nethel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ernative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sequen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si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nce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E.g –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 lean, grey ca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…. 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ers can you th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MCj04364010000[1]"/>
          <p:cNvPicPr/>
          <p:nvPr/>
        </p:nvPicPr>
        <p:blipFill>
          <a:blip r:embed="rId1"/>
          <a:stretch/>
        </p:blipFill>
        <p:spPr>
          <a:xfrm>
            <a:off x="6443640" y="33577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y starter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E.g –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lowly, she ran down the r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w many openers can you th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MCj03206240000[1]"/>
          <p:cNvPicPr/>
          <p:nvPr/>
        </p:nvPicPr>
        <p:blipFill>
          <a:blip r:embed="rId1"/>
          <a:stretch/>
        </p:blipFill>
        <p:spPr>
          <a:xfrm>
            <a:off x="4114800" y="2995560"/>
            <a:ext cx="912960" cy="865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MCj03206240000[1]"/>
          <p:cNvPicPr/>
          <p:nvPr/>
        </p:nvPicPr>
        <p:blipFill>
          <a:blip r:embed="rId2"/>
          <a:stretch/>
        </p:blipFill>
        <p:spPr>
          <a:xfrm>
            <a:off x="6516720" y="4254480"/>
            <a:ext cx="1560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e lane, stood an old house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j0185604"/>
          <p:cNvPicPr/>
          <p:nvPr/>
        </p:nvPicPr>
        <p:blipFill>
          <a:blip r:embed="rId1"/>
          <a:stretch/>
        </p:blipFill>
        <p:spPr>
          <a:xfrm>
            <a:off x="7164360" y="4005360"/>
            <a:ext cx="15685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ing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ning along, Jim fell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hough/as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though he was late, he walked slowl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 was as tall as a bus.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neaky, slimy snak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MCj04174480000[1]"/>
          <p:cNvPicPr/>
          <p:nvPr/>
        </p:nvPicPr>
        <p:blipFill>
          <a:blip r:embed="rId1"/>
          <a:stretch/>
        </p:blipFill>
        <p:spPr>
          <a:xfrm>
            <a:off x="6877080" y="4365720"/>
            <a:ext cx="17542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ed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hausted, Jim ran h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MCj041360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979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p-in ‘ed’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im, exhausted by so much effort, ran hom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ers can you think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MCj041360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979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wro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MCj04136380000[1]"/>
          <p:cNvPicPr/>
          <p:nvPr/>
        </p:nvPicPr>
        <p:blipFill>
          <a:blip r:embed="rId1"/>
          <a:stretch/>
        </p:blipFill>
        <p:spPr>
          <a:xfrm>
            <a:off x="6588000" y="3573360"/>
            <a:ext cx="1830600" cy="237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4134600000[1]"/>
          <p:cNvPicPr/>
          <p:nvPr/>
        </p:nvPicPr>
        <p:blipFill>
          <a:blip r:embed="rId2"/>
          <a:stretch/>
        </p:blipFill>
        <p:spPr>
          <a:xfrm>
            <a:off x="900000" y="3645000"/>
            <a:ext cx="22194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plus stage direction + ‘ing’ clause 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Stop”, he whispered, picking up his torch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7020000" y="4437000"/>
            <a:ext cx="1873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odles, get down!” scre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nca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020000" y="4437000"/>
            <a:ext cx="1873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 you sure that room is ti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m yelled up the stair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948360" y="4724280"/>
            <a:ext cx="187344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524720" y="4797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 you sure that room is ti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m yelled up the stair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6948360" y="4724280"/>
            <a:ext cx="187344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524720" y="4797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5 sentences using 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5 sentences using 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3 sentences using </a:t>
            </a: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 sentence using 3 different pieces of punctuation from the lis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“  ”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; ,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(  ) ?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t least 3 sentences using different pieces of punctuation from the lis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“  ”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; ,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(  ) ?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</a:rPr>
              <a:t>VC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 level these sentences keeping the mean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) the cat sat on the ma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i) the dog walked down the roa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) the fish swam in the bow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) the man sat on the bench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) there was a duck on the po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8:28:51Z</dcterms:created>
  <dc:creator>Administrator</dc:creator>
  <dc:description/>
  <dc:language>en-US</dc:language>
  <cp:lastModifiedBy>Jim</cp:lastModifiedBy>
  <dcterms:modified xsi:type="dcterms:W3CDTF">2008-08-05T09:35:30Z</dcterms:modified>
  <cp:revision>21</cp:revision>
  <dc:subject/>
  <dc:title>VOCABULARY</dc:title>
</cp:coreProperties>
</file>